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8181-4F18-43C5-9FA4-59422D02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234F-092A-4FB4-A2B8-FEAD371D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09BC-FF90-4649-A7E1-844D6D0B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70A3-7A67-4C07-9717-6CA84F50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7B31-419F-4F75-91B4-1F342788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4B0B-8361-4730-8656-4449E40D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6FFC-7F8B-4F59-94B4-198B1D46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CE90-70EF-4399-A688-41C332CA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DF23-9CAF-4C2C-8EDD-C9CD25BF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14440" y="2133360"/>
            <a:ext cx="582912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91FB-BEBE-4E48-98AE-7280A408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AA3B-A6E3-42EA-AE48-51E73DDD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2CACF-5432-4998-968F-B0005897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7EB2-0029-4849-9E7A-A456159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7F1D-F1A2-4128-8CA8-457D3751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B5D7-1D96-46A0-A4E2-4A7894B8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176E-7920-46A9-B26F-E8AC3391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D544-43D7-4A88-AC9B-05F72C62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A1334-2161-4332-BC27-B559F55A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5A12-855B-4CF3-B62C-5CCE15AC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C9B6-C482-4287-A5D0-8A7A0F3B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14440" y="2133360"/>
            <a:ext cx="5829120" cy="11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02EC-D6BE-4743-910E-AC72BF41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3012-DF0D-49DD-A3B9-778D59D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A619-D762-4BF2-A5E7-6E3ABFF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47CD-880F-465A-AAF6-5CF0B1A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1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4824-11D3-4052-8FEA-4030CFB377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64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0724-A6E1-449E-B606-B757E5F6DA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Times New Roman"/>
              </a:rPr>
              <a:t>¡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ienvenidos al Cinema Esp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rial"/>
              </a:rPr>
              <a:t>ña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19810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</a:rPr>
              <a:t>cin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gnifico abri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 pronto con ofertas, comida, 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pelicula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y buena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Gran Apertu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: El 23 de diecemb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: Un cine magnifico que tiene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butac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odas y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pantall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nd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ida: Vendemos palomitas y dulces. ¡Los resfrescos son limonada, agua, soda, y mucho mas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Bolet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¡Para la gran apertura los boletos son DOS POR UNO! La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fi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ante de la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taquil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es larga porque hay mucho emplead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liculas: La pelicula de gran entrada es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Laberinto del Faun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n version original con el famoso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act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an Jorge.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0" lang="en-US" sz="1800" spc="-1" strike="noStrike">
                <a:solidFill>
                  <a:srgbClr val="f2aa68"/>
                </a:solidFill>
                <a:latin typeface="Times New Roman"/>
                <a:ea typeface="Times New Roman"/>
              </a:rPr>
              <a:t>sesion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 a las once de media y a las dos y med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ation: Hay una estacion de metro y autobus cerca del cin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¡Se habla español aquí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681000">
            <a:off x="456840" y="7848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a sala del 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6553080"/>
            <a:ext cx="1914480" cy="14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764400">
            <a:off x="372600" y="5682960"/>
            <a:ext cx="3268800" cy="2179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8229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¡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s por un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895480" y="632448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71800" y="8458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 pelic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6:11:57Z</dcterms:created>
  <dc:creator>brouwerstif</dc:creator>
  <dc:description/>
  <dc:language>en-US</dc:language>
  <cp:lastModifiedBy>brouwerstif</cp:lastModifiedBy>
  <dcterms:modified xsi:type="dcterms:W3CDTF">2011-12-23T15:16:02Z</dcterms:modified>
  <cp:revision>18</cp:revision>
  <dc:subject/>
  <dc:title>Bienvenidos al Cine Mexicano</dc:title>
</cp:coreProperties>
</file>